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440-C5AD-4BEE-A0A5-76BAC5FE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AC4-7DD1-43BE-A360-08AECA52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0D2-C849-4345-8BD5-15847788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FDC-6384-4B37-B6B8-0442B320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E36-F774-4245-B4D5-EF03C438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88A-7E9E-49CA-BF30-A6B5D47F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439-8527-4B72-AC87-9DA1FE36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126-70CC-43E3-AF5C-179B4C8B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3EF-300E-4CBF-851B-81E298E1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500-BE83-4685-B390-20FA11F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78F-00C5-4C72-BB6A-4695E17F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E3B-02CF-430D-BBCF-8B108E3F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9C29-4E30-4F3F-9599-6A4F7494A5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s-ES" sz="5400" spc="-1" strike="noStrike">
                <a:solidFill>
                  <a:srgbClr val="666666"/>
                </a:solidFill>
                <a:latin typeface="Century Gothic"/>
              </a:rPr>
              <a:t>TEMA 7:</a:t>
            </a:r>
            <a:br>
              <a:rPr sz="5400"/>
            </a:br>
            <a:r>
              <a:rPr b="0" lang="es-ES" sz="5400" spc="-1" strike="noStrike">
                <a:solidFill>
                  <a:srgbClr val="666666"/>
                </a:solidFill>
                <a:latin typeface="Century Gothic"/>
              </a:rPr>
              <a:t>Los intercambios de materia</a:t>
            </a:r>
            <a:br>
              <a:rPr sz="5400"/>
            </a:br>
            <a:r>
              <a:rPr b="0" lang="es-ES" sz="5400" spc="-1" strike="noStrike">
                <a:solidFill>
                  <a:srgbClr val="666666"/>
                </a:solidFill>
                <a:latin typeface="Century Gothic"/>
              </a:rPr>
              <a:t>y </a:t>
            </a:r>
            <a:br>
              <a:rPr sz="5400"/>
            </a:br>
            <a:r>
              <a:rPr b="0" lang="es-ES" sz="5400" spc="-1" strike="noStrike">
                <a:solidFill>
                  <a:srgbClr val="666666"/>
                </a:solidFill>
                <a:latin typeface="Century Gothic"/>
              </a:rPr>
              <a:t>Energí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images (10).jpg"/>
          <p:cNvPicPr/>
          <p:nvPr/>
        </p:nvPicPr>
        <p:blipFill>
          <a:blip r:embed="rId1"/>
          <a:stretch/>
        </p:blipFill>
        <p:spPr>
          <a:xfrm>
            <a:off x="250920" y="126828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65" name="2 Imagen" descr="images (11).jpg"/>
          <p:cNvPicPr/>
          <p:nvPr/>
        </p:nvPicPr>
        <p:blipFill>
          <a:blip r:embed="rId2"/>
          <a:stretch/>
        </p:blipFill>
        <p:spPr>
          <a:xfrm>
            <a:off x="5857920" y="1197000"/>
            <a:ext cx="3286080" cy="1390680"/>
          </a:xfrm>
          <a:prstGeom prst="rect">
            <a:avLst/>
          </a:prstGeom>
          <a:ln w="0">
            <a:noFill/>
          </a:ln>
        </p:spPr>
      </p:pic>
      <p:pic>
        <p:nvPicPr>
          <p:cNvPr id="66" name="3 Imagen" descr="images (12).jpg"/>
          <p:cNvPicPr/>
          <p:nvPr/>
        </p:nvPicPr>
        <p:blipFill>
          <a:blip r:embed="rId3"/>
          <a:stretch/>
        </p:blipFill>
        <p:spPr>
          <a:xfrm>
            <a:off x="3132000" y="1197000"/>
            <a:ext cx="2457720" cy="1857240"/>
          </a:xfrm>
          <a:prstGeom prst="rect">
            <a:avLst/>
          </a:prstGeom>
          <a:ln w="0">
            <a:noFill/>
          </a:ln>
        </p:spPr>
      </p:pic>
      <p:pic>
        <p:nvPicPr>
          <p:cNvPr id="67" name="4 Imagen" descr="images (13).jpg"/>
          <p:cNvPicPr/>
          <p:nvPr/>
        </p:nvPicPr>
        <p:blipFill>
          <a:blip r:embed="rId4"/>
          <a:stretch/>
        </p:blipFill>
        <p:spPr>
          <a:xfrm>
            <a:off x="1042920" y="3817800"/>
            <a:ext cx="6985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be0e3"/>
                </a:solidFill>
                <a:latin typeface="Century Gothic"/>
              </a:rPr>
              <a:t>Ciclos biogeoquí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os elementos químicos encargados de formar materia viva forman partes de distintas moléculas. Y estos se mueven a través de los seres vivos desde el medio inerte para regresar al medio describiendo los ciclos biogeoquí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iclo del 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carbono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Es importante y abundante en el medio inorg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u recorrido en la naturaleza se re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as plantas captan el dióxido de carbono mediante la fotosíntesis y lo transforman en materia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Este carbono transformado circula mediante la alimentación por los niveles tróf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arte del carbono que forma las moléculas orgánicas vuelve al medio por la respiración de seres v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be0e3"/>
                </a:solidFill>
                <a:latin typeface="Century Gothic"/>
              </a:rPr>
              <a:t>Ciclos biogeoquí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El dióxido de carbono se enriquece con combust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os seres vivos marinos utilizan parte del carbono disuelto en el agua para construir sus caparazones y cuando mueren lo devuelven al 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os restos de organismos son enterrados por sedimentos transformándose en petróleo o carb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0070418klpcnaecl_43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154764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El ciclo de nitrógen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2 CuadroTexto"/>
          <p:cNvSpPr/>
          <p:nvPr/>
        </p:nvSpPr>
        <p:spPr>
          <a:xfrm>
            <a:off x="539640" y="191628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El nitrógeno se encuentra presente en la atmosfera(78%) pero en el suelo o en el agua es un componente escaso y se halla en forma de sales minerales o amoniaco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s plantas solo puedes usar el nitrógeno de las sales disueltas en el agua y en la fotosíntesis las plantan lo incorporan y lo usan para formar compuestos orgánicos ricos en nitrógeno (proteínas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Ciertos organismos (bacterias) son capaces de captar en nitrógeno atmosférico y transformarlo en compuesto que pueden usar las plantas  y otras viven en simbiosis porque son especialistas en fijar el nitrógeno atmosféric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nitrógeno orgánico de los detritos es transformado por las bacterias des componedoras del suelo que lo convierten en nitrat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Fabricación de abonos inorgánicos  ricos en nitrógen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clo del nitr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"/>
          <p:cNvGrpSpPr/>
          <p:nvPr/>
        </p:nvGrpSpPr>
        <p:grpSpPr>
          <a:xfrm>
            <a:off x="539640" y="949320"/>
            <a:ext cx="8064720" cy="4670280"/>
            <a:chOff x="539640" y="949320"/>
            <a:chExt cx="8064720" cy="4670280"/>
          </a:xfrm>
        </p:grpSpPr>
        <p:sp>
          <p:nvSpPr>
            <p:cNvPr id="78" name="AutoShape 25"/>
            <p:cNvSpPr/>
            <p:nvPr/>
          </p:nvSpPr>
          <p:spPr>
            <a:xfrm>
              <a:off x="539640" y="949320"/>
              <a:ext cx="8064720" cy="467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Text Box 24"/>
            <p:cNvSpPr/>
            <p:nvPr/>
          </p:nvSpPr>
          <p:spPr>
            <a:xfrm>
              <a:off x="3577680" y="1099800"/>
              <a:ext cx="1884240" cy="49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MÓSFERA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Text Box 23"/>
            <p:cNvSpPr/>
            <p:nvPr/>
          </p:nvSpPr>
          <p:spPr>
            <a:xfrm>
              <a:off x="3471840" y="4413240"/>
              <a:ext cx="2305080" cy="67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NO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NH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terias nitrificantes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ELO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Text Box 22"/>
            <p:cNvSpPr/>
            <p:nvPr/>
          </p:nvSpPr>
          <p:spPr>
            <a:xfrm>
              <a:off x="1900080" y="2153880"/>
              <a:ext cx="209700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TAS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trógeno orgánico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proteínas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Text Box 21"/>
            <p:cNvSpPr/>
            <p:nvPr/>
          </p:nvSpPr>
          <p:spPr>
            <a:xfrm>
              <a:off x="5146200" y="2153880"/>
              <a:ext cx="209736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IMALES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trógeno orgánico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proteínas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20"/>
            <p:cNvSpPr/>
            <p:nvPr/>
          </p:nvSpPr>
          <p:spPr>
            <a:xfrm flipH="1">
              <a:off x="3681720" y="4864320"/>
              <a:ext cx="17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 flipV="1">
              <a:off x="3576960" y="3057120"/>
              <a:ext cx="720" cy="135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18"/>
            <p:cNvSpPr/>
            <p:nvPr/>
          </p:nvSpPr>
          <p:spPr>
            <a:xfrm>
              <a:off x="3995640" y="2605320"/>
              <a:ext cx="1152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3786480" y="3057120"/>
              <a:ext cx="72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16"/>
            <p:cNvSpPr/>
            <p:nvPr/>
          </p:nvSpPr>
          <p:spPr>
            <a:xfrm>
              <a:off x="5357160" y="3057120"/>
              <a:ext cx="720" cy="135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3786480" y="4111560"/>
              <a:ext cx="15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>
              <a:off x="5462280" y="1551600"/>
              <a:ext cx="19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7452360" y="1551600"/>
              <a:ext cx="0" cy="30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 flipH="1">
              <a:off x="5775840" y="4563000"/>
              <a:ext cx="16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Line 11"/>
            <p:cNvSpPr/>
            <p:nvPr/>
          </p:nvSpPr>
          <p:spPr>
            <a:xfrm>
              <a:off x="5462280" y="1250280"/>
              <a:ext cx="23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7766280" y="1250280"/>
              <a:ext cx="0" cy="36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" name="Line 9"/>
            <p:cNvSpPr/>
            <p:nvPr/>
          </p:nvSpPr>
          <p:spPr>
            <a:xfrm flipH="1">
              <a:off x="5775840" y="4864320"/>
              <a:ext cx="19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" name="Line 8"/>
            <p:cNvSpPr/>
            <p:nvPr/>
          </p:nvSpPr>
          <p:spPr>
            <a:xfrm flipH="1">
              <a:off x="1272240" y="4864320"/>
              <a:ext cx="21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" name="Line 7"/>
            <p:cNvSpPr/>
            <p:nvPr/>
          </p:nvSpPr>
          <p:spPr>
            <a:xfrm flipV="1">
              <a:off x="1272600" y="1400760"/>
              <a:ext cx="0" cy="346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1272600" y="1400760"/>
              <a:ext cx="23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927000" y="2305080"/>
              <a:ext cx="4474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terias desnitrificantes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3028680" y="3207960"/>
              <a:ext cx="6447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tosíntesis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  nitrógeno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0" name="Text Box 3"/>
            <p:cNvSpPr/>
            <p:nvPr/>
          </p:nvSpPr>
          <p:spPr>
            <a:xfrm>
              <a:off x="7313400" y="2305080"/>
              <a:ext cx="4492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argas eléctricas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Text Box 2"/>
            <p:cNvSpPr/>
            <p:nvPr/>
          </p:nvSpPr>
          <p:spPr>
            <a:xfrm>
              <a:off x="7661520" y="2003040"/>
              <a:ext cx="642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jación por quimiosíntesis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be0e3"/>
                </a:solidFill>
                <a:latin typeface="Century Gothic"/>
              </a:rPr>
              <a:t>Relaciones aliment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234936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as relaciones tróficas o alimentarias son las que los seres vivos mantienen con su medio ambiente para la obtener materia y energía necesaria para su nutr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220px-Alcedo_atthis_2_(Marek_Szczepanek)"/>
          <p:cNvPicPr/>
          <p:nvPr/>
        </p:nvPicPr>
        <p:blipFill>
          <a:blip r:embed="rId1"/>
          <a:stretch/>
        </p:blipFill>
        <p:spPr>
          <a:xfrm>
            <a:off x="5292720" y="4365720"/>
            <a:ext cx="2951280" cy="20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0070417klpcnatun_363"/>
          <p:cNvPicPr/>
          <p:nvPr/>
        </p:nvPicPr>
        <p:blipFill>
          <a:blip r:embed="rId2"/>
          <a:stretch/>
        </p:blipFill>
        <p:spPr>
          <a:xfrm>
            <a:off x="1116000" y="4365720"/>
            <a:ext cx="2982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entury Gothic"/>
              </a:rPr>
              <a:t>Productores, consumidores y  des compone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os distintos organismos según obtengan su energía y materia del medio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roductores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: autótrofos; fabrican su propia materia orgánica a partir de la inorgánica utilizando la luz. Como las alg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Consumidores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: heterótrofos ,se alimentan de materia orgánica viva. Hay vari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Herbívoros o consumidores prim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arnívoros o consumidores secundarios, puede haber también terci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Omnív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Descomponedores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: heterótrofos que se alimentan de restos de organismos y excrementos (detritos) transformándolo en compuestos inorgánicos. Como los hongos. Algunos animales como la lombriz no logran transformar los compuestos en inorgánicos. Lo preparan para los des compon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be0e3"/>
                </a:solidFill>
                <a:latin typeface="Century Gothic"/>
              </a:rPr>
              <a:t>Cadenas y redes tróf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as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cadenas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alimentarias o tróficas son las que se utilizan para representar quién se como a quién. Y un eslabón está unido a otro por flechas. Están ordenadas de forma lineal y la forman organ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Todas las cadenas tienen una serie de niveles tróf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Primer nivel: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guientes niveles: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a red trófica representa las conexiones entre distintas cadenas que adquieren la forma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6666"/>
                </a:solidFill>
                <a:latin typeface="Century Gothic"/>
              </a:rPr>
              <a:t>3.Trasferencia de Energía en Cadenas Tró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18 Marcador de contenido" descr=""/>
          <p:cNvPicPr/>
          <p:nvPr/>
        </p:nvPicPr>
        <p:blipFill>
          <a:blip r:embed="rId1"/>
          <a:stretch/>
        </p:blipFill>
        <p:spPr>
          <a:xfrm>
            <a:off x="2100240" y="1631880"/>
            <a:ext cx="49435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CuadroTexto"/>
          <p:cNvSpPr/>
          <p:nvPr/>
        </p:nvSpPr>
        <p:spPr>
          <a:xfrm>
            <a:off x="539640" y="1009800"/>
            <a:ext cx="748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os productores utilizan la energía del Sol para realizar la fotosíntesis y fabricar compuestos orgánico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Una parte de esa energía orgánica la degrada la respiración que se utiliza para el funcionamiento del organismo y vuelve al medio en forma de calo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Otra parte son los desechos que se mueren y que pasan a los descomponedor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El resto queda almacenado en los órganos que puede utilizarse por el siguiente nivel trófico que a su vez no puede consumir toda esa materia orgánica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entury Gothic"/>
              </a:rPr>
              <a:t>4.Flujo de materia y energía en el ecosist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a materia circula en el ecosistema de forma cíclica: los compuestos inorgánicos del medio, transformados en materia orgánica en la fotosíntesis, son finalmente devueltos al medio y pueden volver a ser produ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 ocurre lo mismo con la energía. A su paso por cada nivel trófico una parte retenida por estos compuestos se libera y se cede al medio en forma de cal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8 Marcador de contenido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870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539640" y="33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Como se mide la energía en el ecosistema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2 CuadroTexto"/>
          <p:cNvSpPr/>
          <p:nvPr/>
        </p:nvSpPr>
        <p:spPr>
          <a:xfrm>
            <a:off x="539640" y="198900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Biomasa es el termino que se utiliza para indicar la cantidad de materia orgánica de la que esta formado un individuo, un nivel trófico o el conjunto de un ecosistem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250920" y="285264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PRODUCC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5 CuadroTexto"/>
          <p:cNvSpPr/>
          <p:nvPr/>
        </p:nvSpPr>
        <p:spPr>
          <a:xfrm>
            <a:off x="539640" y="3357720"/>
            <a:ext cx="64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Una parte de la energía que pasa a través de un nivel trófico se almacena en los organismos aumentando así la biomasa el incremento de biomasa por unidad de tiempo se denomina producción ( se puede en kg/m2/año o kj…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6 CuadroTexto"/>
          <p:cNvSpPr/>
          <p:nvPr/>
        </p:nvSpPr>
        <p:spPr>
          <a:xfrm>
            <a:off x="395280" y="4508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La producción primaria neta (ppn)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Se refiere al incremento de biomasa de los productores. Se calcula restando a la biomasas producida por fotosíntesis la que consumen las plantas por respiració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7 CuadroTexto"/>
          <p:cNvSpPr/>
          <p:nvPr/>
        </p:nvSpPr>
        <p:spPr>
          <a:xfrm>
            <a:off x="539640" y="5300640"/>
            <a:ext cx="748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 producción secundaria neta (PSN)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Se refiere al incremento de la biomasa en los diferentes niveles de consumidores: materia  orgánica ingerida, menos la consumida por la respiración y desecho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8 CuadroTexto"/>
          <p:cNvSpPr/>
          <p:nvPr/>
        </p:nvSpPr>
        <p:spPr>
          <a:xfrm>
            <a:off x="395280" y="595008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 producción neta de un ecosistema (pne):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El incremento de biomasa que se acumula en el ecosistema en un periodo determinado PNE: Fotosíntesis- Respiració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2:47Z</dcterms:created>
  <dc:creator>Luis</dc:creator>
  <dc:description/>
  <dc:language>en-US</dc:language>
  <cp:lastModifiedBy>WinuE</cp:lastModifiedBy>
  <dcterms:modified xsi:type="dcterms:W3CDTF">2012-05-09T08:05:11Z</dcterms:modified>
  <cp:revision>11</cp:revision>
  <dc:subject/>
  <dc:title>Relaciones alimentarias</dc:title>
</cp:coreProperties>
</file>